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D2E-3265-4C93-AB85-683BBCF1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D10-80FA-4CC3-8B86-2C9C4AD1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529-0F50-489B-937F-5F909776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2C2-FD2F-4AAE-93FC-696AF518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39D8-2120-43D6-836E-313D1BBD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6F79-1784-40D1-A2CA-8343E6BC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C671-2B0C-4FC6-8A4F-C45AA39A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88E5-68D8-41FB-BE21-F1AA6C02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E342-A2B4-451B-BA09-6F386807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272D-1F17-44DA-981D-48729E03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302B-10D7-4AC1-9DC1-4E584E95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412-AB11-4839-A9D8-D3154EF6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5E76-F8C6-4057-8FAC-3BAC10E8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EEA8-BA27-44AD-A0AB-50E2D231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50F6-4674-4D2B-9512-BF9A12F3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B478-E2F1-476E-B182-A716AB26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3481-229D-47DA-B2EA-76EF35DD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B97E-2506-42D9-97A4-68478310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4AC2A-BF61-4976-8089-D785FB91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965E-D02E-4D82-B1F4-E37060CC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D459-24AD-4A11-A4EA-4A4EC013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13026-4482-4526-8362-49611F5A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E44-9FA6-4E01-83FA-CB1C063A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9AFC-6576-4D26-AB9A-785E321D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67DEE-98AA-4E68-8252-1C468317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8AFE3-EC35-4B7C-9562-4C2CC5B9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A7BA-AB40-47E1-8D85-72D7DDB6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36CC-58F1-433B-A398-CF2AB16B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5BF2E-91BF-4AD7-8549-BB90364F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9BAE2-399C-4DE1-BE2C-2B39165B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1B758-63EE-41EE-B4C8-CD3CE383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35AE-3BCF-4172-82BE-69D1072C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E3239-A870-4141-B12E-C9784FFF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E70-498B-4CD7-A619-7A88A9CE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17E20-5886-4F58-8E6B-5FE561D7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DC639-66F2-41C9-9214-570D7F1B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2E558-04B7-4ACD-9012-4EC52E4B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A0CE3-4D63-43BF-97C5-2A477E2F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9CF89-B6BE-4F4E-BB07-E48DCC0F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0792-6553-43C6-96A7-2365CA46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2AC62-84C3-4F3E-8E25-35222543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B600C-6869-4CD8-A277-8CF8E55A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10EA6-F30E-41DE-8EAD-7E30320A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FFE-5DA0-4BC8-9FCE-DE79A53D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5C0-8F87-49BC-B5AA-50CFCE86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A34-D19E-4E9D-B866-A6F6487A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E29-6F7C-43FE-99B5-C7E0D888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055-8073-4019-84B4-8567F917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62C6-F83C-42FE-B80C-0D1A15B7AC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8CCA-98F7-4049-A476-69F151B844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9DDB-87CD-4B25-96E8-ABF2E8AAC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6323-94AB-4A0C-A720-AE6ADB61C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kodak.com/" TargetMode="External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18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904760" y="114264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sic Photo-ed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ftware: Microsoft Office Pictur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Adjusting Photo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ze -  try to keep photos less than 500 pixels for use on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gher pixels, better quality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Adjusting Photo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352680" y="3352680"/>
            <a:ext cx="3970440" cy="2978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op – remove edges or unwant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Adjusting Photo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600200" y="274320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248520" y="3048120"/>
            <a:ext cx="2257200" cy="3273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righ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Adjusting Photo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809880" y="2743200"/>
            <a:ext cx="4489560" cy="336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895480" y="2057400"/>
            <a:ext cx="3733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d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Adjusting Photo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057400" y="16002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ODAK has a helpful website that will tell you more about taking great 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dak.com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nk through “Consumer Products” and “Taking Great Pictur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ps” and “Top ten tip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aking GREAT Pictur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Flickr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image storag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828800" y="1752120"/>
            <a:ext cx="6778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ws easily accessible storage of digital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e / share your own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archable - Find other images for your projec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eat for teacher and studen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ww.flickr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Flickr.com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gital Storytelling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hoto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Digital Storytell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hoosing a camera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asic photography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djusting photos (size, brightness, etc.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ing Photos On-line (flick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Story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hoto Stor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ymation / 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Presentation Topic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much is too much when it comes to assistive technology?  Should students be able to use spell check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ow much is too much when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es to assis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echnology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hould our students be abl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 spell che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onal B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Lesson Plan / Tech Plan due next Wedn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 Groups for presentations to me…(one person in each group do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ad “Photostory 3” on your computer (XP &amp; Vista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ke some photo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ke a digital story - send it to a friend and me!!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76720" y="609120"/>
            <a:ext cx="5410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Photography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8" name="" descr="students using computers"/>
          <p:cNvPicPr/>
          <p:nvPr/>
        </p:nvPicPr>
        <p:blipFill>
          <a:blip r:embed="rId2"/>
          <a:stretch/>
        </p:blipFill>
        <p:spPr>
          <a:xfrm>
            <a:off x="2514600" y="2971800"/>
            <a:ext cx="4952880" cy="3494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14600" y="1219320"/>
            <a:ext cx="5357880" cy="5357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43200" y="1295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 picture is worth a thousand wo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ahoma"/>
              </a:rPr>
              <a:t>Photography in the Classroom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60199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ld Chinese Pro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57400" y="16002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ducation is really just about telling our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udents love to tell stories using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earbook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rtfolio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1 Uses for a Digital Camera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ahoma"/>
              </a:rPr>
              <a:t>Photography in the Classroom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vide your viewer into th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lace object on one of the four grid poi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Rule of Third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7" name="" descr="Rule of Thirds and Photography: Rectangle Divided into Thirds"/>
          <p:cNvPicPr/>
          <p:nvPr/>
        </p:nvPicPr>
        <p:blipFill>
          <a:blip r:embed="rId2"/>
          <a:stretch/>
        </p:blipFill>
        <p:spPr>
          <a:xfrm>
            <a:off x="3429000" y="3429000"/>
            <a:ext cx="3657600" cy="2867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Little Lamb Obeying the Rule of Thirds"/>
          <p:cNvPicPr/>
          <p:nvPr/>
        </p:nvPicPr>
        <p:blipFill>
          <a:blip r:embed="rId2"/>
          <a:stretch/>
        </p:blipFill>
        <p:spPr>
          <a:xfrm>
            <a:off x="3505320" y="3505320"/>
            <a:ext cx="3504960" cy="2743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Rule of Thirds and Photography: Rectangle Divided into Thirds"/>
          <p:cNvPicPr/>
          <p:nvPr/>
        </p:nvPicPr>
        <p:blipFill>
          <a:blip r:embed="rId3"/>
          <a:stretch/>
        </p:blipFill>
        <p:spPr>
          <a:xfrm>
            <a:off x="3429000" y="3429000"/>
            <a:ext cx="3657600" cy="28670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vide your viewer into th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lace object on one of the four grid poi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Rule of Third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Little Lamb Obeying the Rule of Thirds"/>
          <p:cNvPicPr/>
          <p:nvPr/>
        </p:nvPicPr>
        <p:blipFill>
          <a:blip r:embed="rId2"/>
          <a:stretch/>
        </p:blipFill>
        <p:spPr>
          <a:xfrm>
            <a:off x="3505320" y="3505320"/>
            <a:ext cx="3504960" cy="27432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vide your viewer into th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lace object on one of the four grid poi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Rule of Third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Rule of Third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7" name="" descr="Mt. Rainier and Barn"/>
          <p:cNvPicPr/>
          <p:nvPr/>
        </p:nvPicPr>
        <p:blipFill>
          <a:blip r:embed="rId2"/>
          <a:stretch/>
        </p:blipFill>
        <p:spPr>
          <a:xfrm>
            <a:off x="2362320" y="1523880"/>
            <a:ext cx="3062160" cy="2198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Rule of Thirds and Photography of a Barn Near Mt. Rainier"/>
          <p:cNvPicPr/>
          <p:nvPr/>
        </p:nvPicPr>
        <p:blipFill>
          <a:blip r:embed="rId3"/>
          <a:stretch/>
        </p:blipFill>
        <p:spPr>
          <a:xfrm>
            <a:off x="5105520" y="3962520"/>
            <a:ext cx="3124080" cy="224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2-18T17:40:50Z</dcterms:modified>
  <cp:revision>33</cp:revision>
  <dc:subject/>
  <dc:title>Welcome to  ED3862</dc:title>
</cp:coreProperties>
</file>